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38097"/>
        <c:axId val="98497327"/>
      </c:barChart>
      <c:catAx>
        <c:axId val="31638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97327"/>
        <c:crosses val="autoZero"/>
        <c:auto val="1"/>
        <c:lblAlgn val="ctr"/>
        <c:lblOffset val="100"/>
        <c:noMultiLvlLbl val="0"/>
      </c:catAx>
      <c:valAx>
        <c:axId val="98497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38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79B-956F-47D6-9007-D6008E06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7C0-0169-4FEC-A4CE-A3F1741E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C5A-1BC8-4718-9CE6-78ED1504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67A-1123-4FB3-8FBC-6904E4B6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ADD-ADD6-4729-8027-448379A3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782-4BDF-4333-9162-8FC8FA0F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0FE-0C73-45C5-9E96-89A86DD0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F47-9627-4A30-ACB8-79996601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075-B79E-4AF8-B718-B4AA74F0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844-6266-47DD-B4F3-09CEF83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DCD-7ABF-4D5B-914F-887CAA80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386-8C09-4D39-A995-E9440280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232CB-2B58-4555-83A5-A7AA117362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