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16625"/>
        <c:axId val="36854620"/>
      </c:barChart>
      <c:catAx>
        <c:axId val="23216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4620"/>
        <c:crosses val="autoZero"/>
        <c:auto val="1"/>
        <c:lblAlgn val="ctr"/>
        <c:lblOffset val="100"/>
        <c:noMultiLvlLbl val="0"/>
      </c:catAx>
      <c:valAx>
        <c:axId val="36854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6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230-7943-4FF7-9206-9CD564F4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0C7-4EED-4A12-9A28-905262C4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1EF-4243-4200-9A2F-53236ECF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4DF-01B4-4CD7-BC2E-FFC327A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014-3747-4EAF-B93C-8F91DC99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D06-794C-4EA6-9C8D-09ACEFA5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1EA-60BD-47DF-B24A-80DE20A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796-EBBE-4081-B871-E942634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2DF-618B-46A5-9EFD-050BA0A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FF9-D2C1-4128-8F9D-5C0ABF7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770-A746-406D-BE55-DE35F27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155-F51E-4AB7-88D8-D5B9560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D9E1-837A-4C75-8240-0C877A3C9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