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46806"/>
        <c:axId val="11576362"/>
      </c:barChart>
      <c:catAx>
        <c:axId val="96646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76362"/>
        <c:crosses val="autoZero"/>
        <c:auto val="1"/>
        <c:lblAlgn val="ctr"/>
        <c:lblOffset val="100"/>
        <c:noMultiLvlLbl val="0"/>
      </c:catAx>
      <c:valAx>
        <c:axId val="11576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46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98A-EBC8-4A22-A98D-ECEA946D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84D-A552-4F9B-A8A8-2B49FDD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E4E-5C84-4171-B5AC-AC712055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B16-8E40-4A0F-8809-8050E287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6F4-8E00-4070-A214-633D24B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B7C-BE2A-43E7-8D23-BF3073CC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311-C9BB-4A48-92BB-FDFE22A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8E9-386E-4283-8806-8C02A5E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8E2-9267-408A-8CCB-413324AB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D43-1A16-428E-8EEE-8F24117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61C-A3DE-4155-B44B-1411DA5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F2A-52D1-48EC-9A79-A3638E4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53493-054B-428B-BDAB-AC92A7945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