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395877"/>
        <c:axId val="76029660"/>
      </c:barChart>
      <c:catAx>
        <c:axId val="95395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29660"/>
        <c:crosses val="autoZero"/>
        <c:auto val="1"/>
        <c:lblAlgn val="ctr"/>
        <c:lblOffset val="100"/>
        <c:noMultiLvlLbl val="0"/>
      </c:catAx>
      <c:valAx>
        <c:axId val="760296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395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A10-D67B-40B5-8FD8-B3FD210B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6315-415C-428F-8801-745B5900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CEF4-A234-4022-B2B8-118470F3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C97F-565E-44C3-8B38-86C8BCDD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4B92-D24E-4D03-8C32-4DD6C474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034-2811-4ED9-B99C-BEABA49F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D19-59E3-451C-A818-9CB083AC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C8F-EF39-45DB-B853-89AD1249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CED-5860-448A-A66D-C397EBF4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34E-CA8E-4D86-ADA8-CAE99721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FFB-7507-4385-9459-1EAF97C2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CA32-B3DC-4D34-8245-52583FA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5989A-0C24-4963-B716-DC4D1A405E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