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849176"/>
        <c:axId val="73670448"/>
      </c:barChart>
      <c:catAx>
        <c:axId val="328491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670448"/>
        <c:crosses val="autoZero"/>
        <c:auto val="1"/>
        <c:lblAlgn val="ctr"/>
        <c:lblOffset val="100"/>
        <c:noMultiLvlLbl val="0"/>
      </c:catAx>
      <c:valAx>
        <c:axId val="736704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8491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4E54-AC56-4BBA-889B-44336A03C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344E-26C9-4E45-8AC2-A91993DF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B756-1469-4587-8C85-23A2C9798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FE4C-7BD3-4DB2-BEED-F43F18A7F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6EB3-1131-4DC5-A844-606B6E45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B38E-1C24-4174-830F-9DA408A0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A08F-14CE-445C-9780-08D946AE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D59E-E353-4324-BE66-9B2A5A9E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AEB0-8A7B-4403-AE98-9442413D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FC55-A705-4B3D-8DA2-DF2748A6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0B94-6274-470F-B4C5-04A3284A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08F4-A276-42B1-BB5B-1C73E3CC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B600EC-552E-46B1-9629-C3C824F788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