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95337"/>
        <c:axId val="32128819"/>
      </c:barChart>
      <c:catAx>
        <c:axId val="77395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28819"/>
        <c:crosses val="autoZero"/>
        <c:auto val="1"/>
        <c:lblAlgn val="ctr"/>
        <c:lblOffset val="100"/>
        <c:noMultiLvlLbl val="0"/>
      </c:catAx>
      <c:valAx>
        <c:axId val="32128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95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A6B-309E-496C-9575-4DF06227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79D-D1D6-415B-92E2-D9F9F649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4ED-3A37-4118-B42D-BEF73065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0D4-08E6-438E-A150-052E7FDF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F83-C362-48F6-9BB5-BDF1B887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2F6-52F8-4710-9C2E-F21F2899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1F5-0181-4579-B29D-7E43B55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ECD-67F7-480C-AC5C-69959AA8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C82-1F3D-442D-9DC0-A40459D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B2A-D95D-4CF0-A40D-4DC289D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563-DFA4-4761-A224-D0CE2E0C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C47-B049-492E-AE14-8D6FE11E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0E534-7B18-4151-886B-F2574A2FD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