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8620"/>
        <c:axId val="14863429"/>
      </c:barChart>
      <c:catAx>
        <c:axId val="9678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63429"/>
        <c:crosses val="autoZero"/>
        <c:auto val="1"/>
        <c:lblAlgn val="ctr"/>
        <c:lblOffset val="100"/>
        <c:noMultiLvlLbl val="0"/>
      </c:catAx>
      <c:valAx>
        <c:axId val="14863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8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BBB-11AC-4EEA-B8CC-CD15819D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822-9919-4C8F-8306-DED8C804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55C-5EA2-4610-AC53-E522A82E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29B-92F2-4544-9717-F4452968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D70-4208-458B-B4A5-46BB43E7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8EA-D57B-498C-A8A4-DBC239C0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667-BEBE-4C0B-8412-E5C1E3E5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A8B-91B5-43E7-B818-6DF0CDF5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2FC-36A6-484C-BF88-7A004CA6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E31-D25F-4860-A5A2-C1799560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9D1-D340-462F-97BC-FD5E006B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046-7443-4434-ABEB-E1B53267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C7682-FE32-4FAA-A16F-155622462D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