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03861"/>
        <c:axId val="97579818"/>
      </c:barChart>
      <c:catAx>
        <c:axId val="141038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79818"/>
        <c:crosses val="autoZero"/>
        <c:auto val="1"/>
        <c:lblAlgn val="ctr"/>
        <c:lblOffset val="100"/>
        <c:noMultiLvlLbl val="0"/>
      </c:catAx>
      <c:valAx>
        <c:axId val="97579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038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313F-1F71-45D0-AD00-F6AB7541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313-4E57-4848-B002-62594B93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6A0-81E1-4DD9-AF4F-9D6870CA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C021-F01E-4502-9B52-C04A1897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092B-32F7-4D61-99C0-12F2223A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B74-8D64-4852-A7F1-E36208B5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1407-0953-415F-89A5-8959ACAB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AE56-9BDD-4C8A-9EDE-61ED7DA3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AA2-9423-4236-B865-BAEC792D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D27-1738-45DB-9C8D-F42185A0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A727-E53F-4147-AAD9-A03CFC1B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BE28-4B21-4B5B-AB97-34A16192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84F62-F96B-4F80-98E9-5B590FACB9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