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18797"/>
        <c:axId val="39867678"/>
      </c:barChart>
      <c:catAx>
        <c:axId val="41318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67678"/>
        <c:crosses val="autoZero"/>
        <c:auto val="1"/>
        <c:lblAlgn val="ctr"/>
        <c:lblOffset val="100"/>
        <c:noMultiLvlLbl val="0"/>
      </c:catAx>
      <c:valAx>
        <c:axId val="39867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18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D23-375B-4899-94B6-DBB8B9A5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6BA-5C74-4C8F-B930-70236E4E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4DE-77CF-4134-A0F6-EB857EEB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4E2-5374-4BBA-B0DF-B6E2A798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548-F70D-4040-9E5F-C14C136A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CA1-C98E-4738-AC03-B3F566D4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665-F74C-43C3-9673-868D477E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24B-B139-4A5E-A83E-D5303C3F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653-DD85-4ACA-8B43-88ABADE0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5CF2-85E5-41AA-A56F-5C97FF4F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DFC-3A97-4BA9-8D3C-9E6DCA7F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7FE-75E3-40F4-990B-E0BEF875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B6D73-7C6A-4A22-9426-BD0D4C9EB6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