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61075"/>
        <c:axId val="53328593"/>
      </c:barChart>
      <c:catAx>
        <c:axId val="59061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28593"/>
        <c:crosses val="autoZero"/>
        <c:auto val="1"/>
        <c:lblAlgn val="ctr"/>
        <c:lblOffset val="100"/>
        <c:noMultiLvlLbl val="0"/>
      </c:catAx>
      <c:valAx>
        <c:axId val="53328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1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C83-0DF9-4FCE-B618-A7BE034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DDF-6496-41A5-BAC9-8F0CA3B4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417-E2AC-4032-B26D-CBE7E8E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739-264D-409D-A5FC-AFCFD0C3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E5F-7FD3-49E7-AB83-8A19F09A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256-9690-497E-B73F-1B1E928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A32-EE34-4388-A0CB-5265B275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A40-167E-4B3F-A659-AE77804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5BE-05DF-4F6F-90B9-DEE83773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D24-4030-44A4-956B-4BB02B7C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8CA-F95A-4F7C-A2F0-D25789C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FDD-28F9-4145-89CB-74F5FF6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94445-F7F1-471C-9C3D-0AA6CFA2DF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