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20339"/>
        <c:axId val="80107852"/>
      </c:barChart>
      <c:catAx>
        <c:axId val="1152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7852"/>
        <c:crosses val="autoZero"/>
        <c:auto val="1"/>
        <c:lblAlgn val="ctr"/>
        <c:lblOffset val="100"/>
        <c:noMultiLvlLbl val="0"/>
      </c:catAx>
      <c:valAx>
        <c:axId val="80107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BD9-F861-4AC7-84AD-4163D007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51A-A769-4DD4-87FF-EED6B99B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FFA-72B7-4D07-B7DD-EBDCB6B1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20A-CD63-4AB2-B29F-E8316E00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165-416B-4DDE-BB68-3BEB9FE5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4B1-0C9C-431F-9587-505414D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B18-4777-46C0-B8D2-71F0561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F89-1A36-4218-818D-154AF72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833-8304-42C5-B54B-B53B3B9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59C-9136-4862-9607-65621E5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843-E03B-4D24-8803-5AFB0A0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91-4BED-4A09-A01A-7390DA5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16294-E8D8-47CE-9EE6-15296243F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