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65421"/>
        <c:axId val="90811354"/>
      </c:barChart>
      <c:catAx>
        <c:axId val="80654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811354"/>
        <c:crosses val="autoZero"/>
        <c:auto val="1"/>
        <c:lblAlgn val="ctr"/>
        <c:lblOffset val="100"/>
        <c:noMultiLvlLbl val="0"/>
      </c:catAx>
      <c:valAx>
        <c:axId val="908113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54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88D0-C763-4DBE-A37B-CA3493DBF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9547-8E39-4D47-B808-A0BBBA7E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9741-7706-4176-BAAD-1D74180E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9751-7086-4B41-BAAF-A36146C0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C9DA-C90C-4471-959E-42943CCD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7C5C-30BA-4D72-B129-B988EDDA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13E2-DD28-4BDD-AB65-0CC6D949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986E-08E7-4674-9799-6C5F23A4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523A-CB9E-4E6D-9F4B-80F5FE25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B50A-046A-49CD-8F7F-1D0DEC09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2306-A160-471B-82D8-CC27B2DA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EC87-E869-40C5-8F4A-32AB5201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524FE-3E38-4A62-B0CC-D57F548D5A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