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14847"/>
        <c:axId val="65979558"/>
      </c:barChart>
      <c:catAx>
        <c:axId val="39414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79558"/>
        <c:crosses val="autoZero"/>
        <c:auto val="1"/>
        <c:lblAlgn val="ctr"/>
        <c:lblOffset val="100"/>
        <c:noMultiLvlLbl val="0"/>
      </c:catAx>
      <c:valAx>
        <c:axId val="65979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14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E77-7203-4534-B1D5-BD38F6F3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5EF-966D-42CE-8584-763942E3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52E-436C-41EF-8BAF-78ABE06A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35C-0199-423F-A5EC-F1B13D89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E11-EED5-439F-8B61-84BF365F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0FE-84BF-449A-9EA3-6339175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325-4AAC-46E3-9986-2717E60C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43D-87E4-4E8B-AE89-21D9A36F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030-DEAE-4E65-A8F4-4B06884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504-BDAF-46A0-A00C-33A3D3E5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5BB-23C3-437A-80F2-090DE9D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C93-B899-494B-8981-7163C46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FC81-99FC-4C71-B35A-52A0E8922D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