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799993"/>
        <c:axId val="64264038"/>
      </c:barChart>
      <c:catAx>
        <c:axId val="967999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64038"/>
        <c:crosses val="autoZero"/>
        <c:auto val="1"/>
        <c:lblAlgn val="ctr"/>
        <c:lblOffset val="100"/>
        <c:noMultiLvlLbl val="0"/>
      </c:catAx>
      <c:valAx>
        <c:axId val="642640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999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FF60-B756-4112-939C-56C430BA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F4F3-55F2-49E5-90A5-84C00809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C372-E8AA-4A3D-AFF5-93C80E95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7E15-8FD4-44F9-A9FB-7C3D1632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DE7E-8112-44BC-B3E1-24AA6187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E60E-3F6E-42EE-A8C2-228B1D88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3A8B-725D-49F2-A853-04C6AFF5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D921-16BB-46EB-A3EF-C5ED407B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6545-1C8A-441E-A2C7-E6B5D3CE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C4AE-0016-4665-8A9D-17305445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3CD2-5B27-4CC8-9CD0-9D5763AC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6BEC-8012-4ED2-AA49-FA02FFD7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6660F-503F-430E-B363-F1B756E496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