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31006"/>
        <c:axId val="37119680"/>
      </c:barChart>
      <c:catAx>
        <c:axId val="38031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9680"/>
        <c:crosses val="autoZero"/>
        <c:auto val="1"/>
        <c:lblAlgn val="ctr"/>
        <c:lblOffset val="100"/>
        <c:noMultiLvlLbl val="0"/>
      </c:catAx>
      <c:valAx>
        <c:axId val="3711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31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0DA5-3B08-467F-800F-07B9925C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DBA-D62D-4AD7-804D-DEA46EDA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DBC-E0E9-4A15-BE50-402C630D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BEE-8182-4E49-8B61-E0D5C6CB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DFA-B3F6-49CF-BE73-4B22874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CA7-8367-43A7-882C-30E190F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1DC-01E2-4F1E-9493-5E438EFC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62A-1255-4DB0-91CC-88109A4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759-7886-43FF-B5F9-4890AC1B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2D9-D02B-4164-AED7-D1A7FCD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DC7-C17B-448A-8D75-BFDC62E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746-04D5-44A5-8BDE-82F9C4D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1A130-D982-4A16-9A44-1D99296A51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