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84340"/>
        <c:axId val="78895669"/>
      </c:barChart>
      <c:catAx>
        <c:axId val="48884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95669"/>
        <c:crosses val="autoZero"/>
        <c:auto val="1"/>
        <c:lblAlgn val="ctr"/>
        <c:lblOffset val="100"/>
        <c:noMultiLvlLbl val="0"/>
      </c:catAx>
      <c:valAx>
        <c:axId val="78895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84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67A-7A54-4500-8D1A-EAA87133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78D-32B0-448B-A52E-8D69A635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B57-07A9-44D4-BE0A-13EB1997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2BE-1C27-4D2D-8E0D-16ED7814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693-AF31-433A-AE0F-0A3B8885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3BB-5151-429C-8348-A8014B73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F17-F97A-464F-82FB-EA2D3FBE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FA1-A480-4852-833A-9E37C42B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D6D-2B64-4FBD-96A8-C8585DB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EE4-1395-48E7-8606-B5C5AE9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340-AAF2-4B94-A072-167F8D7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D29-D775-46D2-8791-F13DF84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2B288-7883-4013-9B46-C6010EDCE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