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818138"/>
        <c:axId val="82246598"/>
      </c:barChart>
      <c:catAx>
        <c:axId val="178181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246598"/>
        <c:crosses val="autoZero"/>
        <c:auto val="1"/>
        <c:lblAlgn val="ctr"/>
        <c:lblOffset val="100"/>
        <c:noMultiLvlLbl val="0"/>
      </c:catAx>
      <c:valAx>
        <c:axId val="822465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8181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D96E-DDD2-4E3A-BA80-0D9516569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04BD-28DB-4E56-9B0E-0A3BA0C0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EFEB-FF07-4FC4-B901-49474B98D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C454-8EC9-4D9D-BB81-103F5A63C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0532-34F1-442E-A63F-8D5B44CE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D782-020B-4EEC-8F78-8252E4C6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0361-6E20-470E-99CB-644DC998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01EF-A8B5-4665-88CB-83D5C0E0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64B9-B363-4592-8541-DCC9FD2D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0B12-1DFA-4715-92E4-53141774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12F3-C148-41D6-B5A0-290E2DF6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5288-0360-45B5-A340-25E83671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EF073A-6496-4669-AC4F-8C037C85BF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