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96592"/>
        <c:axId val="19032889"/>
      </c:barChart>
      <c:catAx>
        <c:axId val="52396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32889"/>
        <c:crosses val="autoZero"/>
        <c:auto val="1"/>
        <c:lblAlgn val="ctr"/>
        <c:lblOffset val="100"/>
        <c:noMultiLvlLbl val="0"/>
      </c:catAx>
      <c:valAx>
        <c:axId val="19032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6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F92-AC02-42A3-B35C-FC2F4649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56F-C7EE-4A34-870E-19549A04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455-B6D6-4F16-87AE-864A044E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D3F-8FD5-417B-88EB-4E2B39E1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C03-7D6E-4604-B2DC-1AAF4E8E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B5E-DD05-4741-8711-E4D4A71E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009-D628-481E-B4B3-FA53351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6F0-0B03-444E-AEE1-435BF6F3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03E-D126-4475-BA3A-917D8A2C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7E5-80EF-43A0-B5C6-C633E90E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FF5-3893-4C8B-9E1B-38B3DEAB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314-98DB-4089-86A8-4041B8FA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56763-529F-4396-AB3A-C9EC64DC28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