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69591"/>
        <c:axId val="94536744"/>
      </c:barChart>
      <c:catAx>
        <c:axId val="78369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36744"/>
        <c:crosses val="autoZero"/>
        <c:auto val="1"/>
        <c:lblAlgn val="ctr"/>
        <c:lblOffset val="100"/>
        <c:noMultiLvlLbl val="0"/>
      </c:catAx>
      <c:valAx>
        <c:axId val="94536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69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457-2C8D-452E-BE20-7FAF279E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D84-B4ED-4B59-84B7-FFFA245B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1A1-B3B6-4908-A669-26642202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337-49AB-40C9-9656-7F8DB4CD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176-10D1-4450-95EB-B3EEAD34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E1B-448D-4B7C-9BD4-A3ACD96A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6E3-17D1-46EC-BBA3-ADE4E55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6AF-2D9B-4296-9023-BB34AF2D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F44-F1EF-4349-BF91-2A34199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EB7-3098-490C-8FE5-3CB9454E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55C-7040-45C3-A416-928A47AF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253-1987-4168-8CAE-8F9BCA1B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E376F-EC98-4413-A66A-43FAEA8177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