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67741"/>
        <c:axId val="46170864"/>
      </c:barChart>
      <c:catAx>
        <c:axId val="72967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70864"/>
        <c:crosses val="autoZero"/>
        <c:auto val="1"/>
        <c:lblAlgn val="ctr"/>
        <c:lblOffset val="100"/>
        <c:noMultiLvlLbl val="0"/>
      </c:catAx>
      <c:valAx>
        <c:axId val="46170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67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1AC-3961-435A-9399-C0A729A8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1CC-1EFC-4C92-87CA-F8916586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9F5-9D80-4B6F-B6EE-B5835DD8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08C-879A-42AC-981F-259CA22D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7A5-0D5E-4DF4-93C1-9A2EB7FE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8B5-0AB5-404E-8DB2-DFD17594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7AF-844E-43B0-B46E-80D02F13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E99-175E-4F48-8C60-3F146D2C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96D-C4C0-44B0-ABA2-4AD4C848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F63-83F1-40C7-A5A6-E5388387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09E-10E4-45E2-B62E-4DC446AF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FD9-1DD0-46C3-A67D-659F921C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E7799-A204-4849-8F70-731315E550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