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70061"/>
        <c:axId val="46155242"/>
      </c:barChart>
      <c:catAx>
        <c:axId val="98770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5242"/>
        <c:crosses val="autoZero"/>
        <c:auto val="1"/>
        <c:lblAlgn val="ctr"/>
        <c:lblOffset val="100"/>
        <c:noMultiLvlLbl val="0"/>
      </c:catAx>
      <c:valAx>
        <c:axId val="46155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70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750-8BF6-403F-A28F-DDC99C7F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47D-B98C-4AF6-8B4E-0AA8B438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8B6-90F4-4B06-AB16-F9874CEC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141-BC81-47AC-8512-6E7F06F9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318-6485-4B0C-95FD-F9127D76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26A-F632-45E7-BE7D-E562109C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D5B-9C72-446B-A7DA-B91A758A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CED-7043-4030-9697-9837FB36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B0C-211E-4F65-9050-317BFA89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EA7-B2E1-4D05-A673-2D58503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D41-C83B-4A5A-91B8-02323CF5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64B-66F8-41BF-A753-A252F5FB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885DD-7B7B-48F4-93ED-D1F048A5C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