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7750"/>
        <c:axId val="82073281"/>
      </c:barChart>
      <c:catAx>
        <c:axId val="3177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3281"/>
        <c:crosses val="autoZero"/>
        <c:auto val="1"/>
        <c:lblAlgn val="ctr"/>
        <c:lblOffset val="100"/>
        <c:noMultiLvlLbl val="0"/>
      </c:catAx>
      <c:valAx>
        <c:axId val="82073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D11-DA31-4089-A5B6-9B52353B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190-A100-4A58-9CF5-5583238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669-ACEC-4106-B81A-A41792F6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306-2322-4427-AF07-0FC2B84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913-31AF-4AF7-81FA-16C47C1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136-3070-40B1-AA26-0221F62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A0E-01E5-4CF9-A02A-71B968B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E6C-6A15-496A-B80A-224C973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FFD-3409-4155-AC45-A1775C9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679-5C0A-4B75-9E86-2E221CF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A8-2520-4C3B-AEE0-D7D0880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29C-A8D8-4A71-9772-CE57487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4F665-E5E2-4F1A-BAE7-4AE14E72B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